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0408-B51B-43C7-8FAD-BB33771B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EF86-CBE4-4793-918F-C16A3151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30E6-429C-4151-97EE-E5F2D766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1D78-6112-4467-9720-48D888476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E5CA-87EF-4D5A-BD3F-E0BF5167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929C-AF24-4EA3-9D98-CF0940B7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5E8B-D50B-401D-8A09-4AEF5D4A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03EA-E92B-4060-9219-AB651567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521F-79C8-4275-9FCA-D60D3C66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4030-43A5-4B26-BC6A-0589445F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14C0-ECDE-441C-868C-9FF65540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BC53-D297-47C9-95E6-1E8A14F9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86AC-B540-447E-9BA0-3A959525B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             Clase 7 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1 de octubre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13: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¿Estas estudiando españ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 Spanish, write a list of at least 15 verbs learned so far. Then seperate them into three columns: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-AR, -ER, -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storieta 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a p. 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3124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l presente progressivo</a:t>
            </a:r>
            <a:br>
              <a:rPr sz="40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scribing an action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use the present progressive in Spanish to express an action in progress, an action that is presently taking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orm the present progressive you use the verb ESTAR and the present partici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conjugate the verb EST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otro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ú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 ella Ud.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os ellas Uds.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02360" y="472428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st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3080" y="518148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5720" y="57150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st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08240" y="47242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st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74480" y="571500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st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El participio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ent parti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orm the present participle of –AR verbs, you remove the ending and a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AN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root of the ver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UD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udi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3581280"/>
            <a:ext cx="775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10360" y="419112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orm the present participle of –ER &amp; -IR verbs, you remove the –ER/-IR and replace it with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–IE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V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C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16600" y="2529000"/>
            <a:ext cx="1231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3124080"/>
            <a:ext cx="775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12720" y="3062160"/>
            <a:ext cx="130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IE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2514600"/>
            <a:ext cx="1231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65600" y="3048120"/>
            <a:ext cx="130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IE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02400" y="2438280"/>
            <a:ext cx="1231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4191120"/>
            <a:ext cx="1231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6400" y="4876920"/>
            <a:ext cx="130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IE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89280" y="4815000"/>
            <a:ext cx="130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IE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235560" y="4200840"/>
            <a:ext cx="1231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029200" y="4799160"/>
            <a:ext cx="1231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erbs LEER and TRAER have remove the –ER and replace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   –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Y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09280" y="2666880"/>
            <a:ext cx="185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YE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64360" y="3809880"/>
            <a:ext cx="19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YE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o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present participle HABLAR would be conjugated in the following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sto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habla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ú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st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habla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l.ella.Ud.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s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habla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stam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habla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os.ellas.uds. 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t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habla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52280" y="7596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sto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omi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ú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st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omi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l.ella.Ud.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st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omi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stam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omi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os.ellas.uds.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stá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omi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v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sto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vivi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ú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st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viv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l.ella.Ud.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st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vivi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stam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vivi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os.ellas.uds. 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tá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vivi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te the following in the PRESENT PROGRES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ud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rib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e with the present progress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José _________________ un viaje a México con su clase de español.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hac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hora él________________ la salida de su vuelo.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esper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José _________________ su tarjeta de embarque.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mir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andra _______________ las salidas en la pantalla.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le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4:58:39Z</dcterms:created>
  <dc:creator>Helen Zumaeta</dc:creator>
  <dc:description/>
  <dc:language>en-US</dc:language>
  <cp:lastModifiedBy>Helen Zumaeta</cp:lastModifiedBy>
  <dcterms:modified xsi:type="dcterms:W3CDTF">2011-10-21T20:14:50Z</dcterms:modified>
  <cp:revision>3</cp:revision>
  <dc:subject/>
  <dc:title>Me llamo _______             Clase 7 IM La fecha es el 21 de octubre del 2011</dc:title>
</cp:coreProperties>
</file>